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E07-05E9-4E30-BD77-946BC833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9D6-B310-444A-A4B5-B9577711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3158-DD0A-4B9E-B440-4718F828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43E-E079-4C09-B637-47F461A0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4DD3-B119-4860-962C-22556721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6EB-D84F-4D03-BEF3-8940737A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99E-81BE-49EE-8F88-012243E6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5E6-EEBE-42A7-8D9A-0CB6CD41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780-04C7-4BE4-B38A-8B8AF42E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1BD-A746-4283-8768-BD128FCB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7259-43DC-438A-AE6E-995B5C08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18C-1ABE-44BD-B275-E13813F6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BD88-0314-40B5-A61A-491544DA43D4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uadroTexto"/>
          <p:cNvSpPr/>
          <p:nvPr/>
        </p:nvSpPr>
        <p:spPr>
          <a:xfrm>
            <a:off x="1000080" y="235908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600" spc="-1" strike="noStrike">
                <a:solidFill>
                  <a:srgbClr val="000000"/>
                </a:solidFill>
                <a:latin typeface="Book Antiqua"/>
              </a:rPr>
              <a:t>EL SIGN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500040" y="677880"/>
            <a:ext cx="8215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esde esta perspectiva, todas las cosas, los hechos, las actitudes podrían ser signos. No obstante, para que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algo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sea considerado signo, de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Tener un significado (un referente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Ser emitido por alguien (emisor) para alguien (un receptor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Tener una intención, es decir, ser empleado con un propósi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Ambos, emisor y receptor, estar de acuerdo sobre lo que ese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algo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significa (contenid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Estar inserto en un sistema que le da sentido (código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CuadroTexto"/>
          <p:cNvSpPr/>
          <p:nvPr/>
        </p:nvSpPr>
        <p:spPr>
          <a:xfrm>
            <a:off x="500040" y="57168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CLASES DE SIG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Una clasificación general y unitaria de los signos no es viable debido a los múltiples criterios que se pueden utilizar y que se entrecruz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1. Según el intérpre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a. Signos humanos: las palabras, la música, la pintura, las señales de tránsito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b. Signos no humanos: la danza de las abejas, las feromonas sexuales entre los animales, el rugido de un león, el gruñido de un perro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CuadroTexto"/>
          <p:cNvSpPr/>
          <p:nvPr/>
        </p:nvSpPr>
        <p:spPr>
          <a:xfrm>
            <a:off x="428760" y="511200"/>
            <a:ext cx="8215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2. Según el ámbito en el que se da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a. Signos naturales: Se consideran signos naturales los signos involuntarios y los no intencionales: el humo como efecto del fuego, la fiebre, una huella en el suelo, todos los signos no humano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b. Signos culturales: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Son producto de la creación cultural del hombre y, por lo tanto, implican una intencionalidad sígnica de parte del emisor y una actividad descodificadora de parte de un destinatario. Estos signos constituyen códigos. Ejemplos: el color negro como símbolo del luto en la tradición cristiana, las banderas, las palabras, las esculturas, las señales de tránsito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357120" y="428760"/>
            <a:ext cx="8358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3. Según su estructur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a. Signos verba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Estos signos constituyen un sistema con posibilidades de combinación en dos dimens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La primera dimensión corresponde al medio material de su expresión (sonidos o letras) y la segunda corresponde a su significació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b. Signos no verba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Son signos que carecen de las características que hemos atribuido a los signos verbales, es decir, son signos que no se articulan en dos dimensiones. Por ejemplo: la música, los movimientos de las manos de los sordomudos, las banderas, la forma de vestir, todos los signos no humano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CuadroTexto"/>
          <p:cNvSpPr/>
          <p:nvPr/>
        </p:nvSpPr>
        <p:spPr>
          <a:xfrm>
            <a:off x="214200" y="582480"/>
            <a:ext cx="8572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4. Según su relación con el significad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a. Ícon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Son signos cuya relación con el objeto que designan o evocan se basa en la semejanza figurativa o ex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b. Índic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Los índices apuntan físicamente a su objeto, están afectados inmediatamente por él y guardan cierta conexión físico-espacial con el objeto al cual señal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c. Símbo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En estos signos la relación que une al signo con su referente es el resultado de una convenció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1 CuadroTexto"/>
          <p:cNvSpPr/>
          <p:nvPr/>
        </p:nvSpPr>
        <p:spPr>
          <a:xfrm>
            <a:off x="428760" y="1143000"/>
            <a:ext cx="83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Los seres humanos estamos dotados de esa facultad que nos permite crear, adquirir, aprender y usar códigos constituidos por sign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La comunicación humana está, precisamente, ligada a esa capacidad de interpretar unos sonidos, unos gestos, unas imágenes y unas marcas, como signos de otras realidades acerca de las cuales un interlocutor quiere llamar nuestra aten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 CuadroTexto"/>
          <p:cNvSpPr/>
          <p:nvPr/>
        </p:nvSpPr>
        <p:spPr>
          <a:xfrm>
            <a:off x="428760" y="785880"/>
            <a:ext cx="8215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DEFINI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1. “Signo es todo cuanto representa otra cosa en algún aspecto para alguien. Signo es lo que puede interpretarse” (Eco, Humbert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2. “Un hecho perceptible que nos da información sobre algo distinto de sí mismo” (Ávila, Raúl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3. “El signo es tal, en la medida en que significa algo (significado), sobre algo (referente) de alguien (emisor) y para alguien (destinatario)” (Niño, Roja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428760" y="1203480"/>
            <a:ext cx="8143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El signo, como representación, en realidad sólo tiene existencia en la mente de quien lo interpret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Por esto, los signos no se definen únicamente porque sustituyan las cosas, sino porque funcionan realmente como instrumentos que </a:t>
            </a:r>
            <a:r>
              <a:rPr b="1" lang="es-ES" sz="2400" spc="-1" strike="noStrike">
                <a:solidFill>
                  <a:srgbClr val="ff0000"/>
                </a:solidFill>
                <a:latin typeface="Book Antiqua"/>
              </a:rPr>
              <a:t>hacen posible que pensemos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, incluso también en lo que no vemos ni tocam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Pensar es el principal modo de representar, e interpretar un signo; es desentrañar su signific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428760" y="1119240"/>
            <a:ext cx="8286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Los signos se clasifican según su intención comunicativa e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Primar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Secundar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Natura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Los signos creados por los seres humanos con la intención de decir, informar, advertir, o elaborar mensajes de un modo directo se denominan 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</a:rPr>
              <a:t>signos primarios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y operan dentro de amplios sistemas de reglas, generalmente complej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sole\Pictures\Dibujo5.jpg"/>
          <p:cNvPicPr/>
          <p:nvPr/>
        </p:nvPicPr>
        <p:blipFill>
          <a:blip r:embed="rId1"/>
          <a:stretch/>
        </p:blipFill>
        <p:spPr>
          <a:xfrm>
            <a:off x="0" y="1928880"/>
            <a:ext cx="2921040" cy="2928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sole\Pictures\Dibujo4.jpg"/>
          <p:cNvPicPr/>
          <p:nvPr/>
        </p:nvPicPr>
        <p:blipFill>
          <a:blip r:embed="rId2"/>
          <a:stretch/>
        </p:blipFill>
        <p:spPr>
          <a:xfrm>
            <a:off x="3143160" y="571680"/>
            <a:ext cx="2786040" cy="5846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sole\Pictures\Dibujo3.jpg"/>
          <p:cNvPicPr/>
          <p:nvPr/>
        </p:nvPicPr>
        <p:blipFill>
          <a:blip r:embed="rId3"/>
          <a:stretch/>
        </p:blipFill>
        <p:spPr>
          <a:xfrm>
            <a:off x="6143760" y="1500120"/>
            <a:ext cx="2714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428760" y="150012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También existen los 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</a:rPr>
              <a:t>signos naturales: 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el sabor a descompuesto, el olor a podrido, el humo en un incendio, o las nubes oscuras. Estos aspectos de la naturaleza son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interpretados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por las personas como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señales de algo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.  No son signos primarios porque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no fueron creados por la sociedad con la intención de comunicar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, aunque el ser humano les asigne un signific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571680" y="135720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Se denominan 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</a:rPr>
              <a:t>signos secundarios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a los objetos creados por el ser humano sin la intención directa de establecer comunicación, tales como el vestido, las  viviendas y edificios, los perfumes, los automóvil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Sin embargo, estos  objetos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comunican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o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indican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algo de quien los usa, de quien los elabora, de la cultura que los emple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:\Users\sole\Pictures\Dibujo2.jpg"/>
          <p:cNvPicPr/>
          <p:nvPr/>
        </p:nvPicPr>
        <p:blipFill>
          <a:blip r:embed="rId1"/>
          <a:stretch/>
        </p:blipFill>
        <p:spPr>
          <a:xfrm>
            <a:off x="500040" y="571680"/>
            <a:ext cx="2550960" cy="564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sole\Pictures\Dibujo1.jpg"/>
          <p:cNvPicPr/>
          <p:nvPr/>
        </p:nvPicPr>
        <p:blipFill>
          <a:blip r:embed="rId2"/>
          <a:stretch/>
        </p:blipFill>
        <p:spPr>
          <a:xfrm>
            <a:off x="3143160" y="571680"/>
            <a:ext cx="2857680" cy="566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sole\Pictures\Dibujo.jpg"/>
          <p:cNvPicPr/>
          <p:nvPr/>
        </p:nvPicPr>
        <p:blipFill>
          <a:blip r:embed="rId3"/>
          <a:stretch/>
        </p:blipFill>
        <p:spPr>
          <a:xfrm>
            <a:off x="6143760" y="571680"/>
            <a:ext cx="254628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8:00:05Z</dcterms:created>
  <dc:creator>Fam. Marquez Tamayo</dc:creator>
  <dc:description/>
  <dc:language>en-US</dc:language>
  <cp:lastModifiedBy>Fam. Marquez Tamayo</cp:lastModifiedBy>
  <dcterms:modified xsi:type="dcterms:W3CDTF">2010-05-27T09:02:40Z</dcterms:modified>
  <cp:revision>7</cp:revision>
  <dc:subject/>
  <dc:title>Diapositiva 1</dc:title>
</cp:coreProperties>
</file>