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03D-9821-4FD9-879D-5B974815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630-F0E4-4924-B7C6-C98D22F6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26E-F94D-4BFA-A0EC-57A9D5F6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6FB-F92A-42DA-87FD-3C2C6408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B8C-913C-4097-B46A-3D083619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0F8-E053-4E05-8FAA-8FD90F14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032-3C8B-42BA-BF14-19F9F719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411-BDA5-4E80-8D47-EF67C1D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64F-28EA-4E58-8D10-10EFFEC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950-F8AC-4C16-99D6-B32D2EC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AA2-F4BB-424E-A04F-71E1C62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705-0F3A-4B07-9154-94FF0ED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B5A-F969-4195-BCE1-1EB08393B73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uadroTexto"/>
          <p:cNvSpPr/>
          <p:nvPr/>
        </p:nvSpPr>
        <p:spPr>
          <a:xfrm>
            <a:off x="1000080" y="235908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600" spc="-1" strike="noStrike">
                <a:solidFill>
                  <a:srgbClr val="000000"/>
                </a:solidFill>
                <a:latin typeface="Book Antiqua"/>
              </a:rPr>
              <a:t>EL SIGN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CuadroTexto"/>
          <p:cNvSpPr/>
          <p:nvPr/>
        </p:nvSpPr>
        <p:spPr>
          <a:xfrm>
            <a:off x="500040" y="677880"/>
            <a:ext cx="82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esde esta perspectiva, todas las cosas, los hechos, las actitudes podrían ser signos. No obstante, para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ea considerado signo,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 significado (un referente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r emitido por alguien (emisor) para alguien (un receptor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Tener una intención, es decir, ser empleado con un propósi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Ambos, emisor y receptor, estar de acuerdo sobre lo que es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significa (conteni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Estar inserto en un sistema que le da sentido (código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CuadroTexto"/>
          <p:cNvSpPr/>
          <p:nvPr/>
        </p:nvSpPr>
        <p:spPr>
          <a:xfrm>
            <a:off x="500040" y="57168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CLASES DE SIG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Una clasificación general y unitaria de los signos no es viable debido a los múltiples criterios que se pueden utilizar y que se entrecruz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1. Según el intérpre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humanos: las palabras, la música, la pintura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humanos: la danza de las abejas, las feromonas sexuales entre los animales, el rugido de un león, el gruñido de un perr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CuadroTexto"/>
          <p:cNvSpPr/>
          <p:nvPr/>
        </p:nvSpPr>
        <p:spPr>
          <a:xfrm>
            <a:off x="428760" y="511200"/>
            <a:ext cx="8215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2. Según el ámbito en el que se d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naturales: Se consideran signos naturales los signos involuntarios y los no intencionales: el humo como efecto del fuego, la fiebre, una huella en el suelo, todos los signos no humano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culturales: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producto de la creación cultural del hombre y, por lo tanto, implican una intencionalidad sígnica de parte del emisor y una actividad descodificadora de parte de un destinatario. Estos signos constituyen códigos. Ejemplos: el color negro como símbolo del luto en la tradición cristiana, las banderas, las palabras, las esculturas, las señales de tránsito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CuadroTexto"/>
          <p:cNvSpPr/>
          <p:nvPr/>
        </p:nvSpPr>
        <p:spPr>
          <a:xfrm>
            <a:off x="357120" y="428760"/>
            <a:ext cx="8358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3. Según su estructu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Signos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stos signos constituyen un sistema con posibilidades de combinación en dos dimens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primera dimensión corresponde al medio material de su expresión (sonidos o letras) y la segunda corresponde a su signific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Signos no verb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que carecen de las características que hemos atribuido a los signos verbales, es decir, son signos que no se articulan en dos dimensiones. Por ejemplo: la música, los movimientos de las manos de los sordomudos, las banderas, la forma de vestir, todos los signos no humano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CuadroTexto"/>
          <p:cNvSpPr/>
          <p:nvPr/>
        </p:nvSpPr>
        <p:spPr>
          <a:xfrm>
            <a:off x="214200" y="582480"/>
            <a:ext cx="857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4. Según su relación con el significa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a. Íco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Son signos cuya relación con el objeto que designan o evocan se basa en la semejanza figurativa o ex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b. Índic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índices apuntan físicamente a su objeto, están afectados inmediatamente por él y guardan cierta conexión físico-espacial con el objeto al cual señal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c. Símbo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n estos signos la relación que une al signo con su referente es el resultado de una conven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428760" y="114300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os seres humanos estamos dotados de esa facultad que nos permite crear, adquirir, aprender y usar códigos constituidos por sign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La comunicación humana está, precisamente, ligada a esa capacidad de interpretar unos sonidos, unos gestos, unas imágenes y unas marcas, como signos de otras realidades acerca de las cuales un interlocutor quiere llamar nuestra ate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 CuadroTexto"/>
          <p:cNvSpPr/>
          <p:nvPr/>
        </p:nvSpPr>
        <p:spPr>
          <a:xfrm>
            <a:off x="428760" y="78588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Book Antiqua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1. “Signo es todo cuanto representa otra cosa en algún aspecto para alguien. Signo es lo que puede interpretarse” (Eco, Humbert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2. “Un hecho perceptible que nos da información sobre algo distinto de sí mismo” (Ávila, Raú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3. “El signo es tal, en la medida en que significa algo (significado), sobre algo (referente) de alguien (emisor) y para alguien (destinatario)” (Niño, Roja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120348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El signo, como representación, en realidad sólo tiene existencia en la mente de quien lo interpre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or esto, los signos no se definen únicamente porque sustituyan las cosas, sino porque funcionan realmente como instrumentos que </a:t>
            </a:r>
            <a:r>
              <a:rPr b="1" lang="es-ES" sz="2400" spc="-1" strike="noStrike">
                <a:solidFill>
                  <a:srgbClr val="ff0000"/>
                </a:solidFill>
                <a:latin typeface="Book Antiqua"/>
              </a:rPr>
              <a:t>hacen posible que pensemo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, incluso también en lo que no vemos ni tocam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Pensar es el principal modo de representar, e interpretar un signo; es desentrañar su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1 CuadroTexto"/>
          <p:cNvSpPr/>
          <p:nvPr/>
        </p:nvSpPr>
        <p:spPr>
          <a:xfrm>
            <a:off x="428760" y="1119240"/>
            <a:ext cx="8286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se clasifican según su intención comunicativa e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Prim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Secundar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Natura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os signos creados por los seres humanos con la intención de decir, informar, advertir, o elaborar mensajes de un modo directo 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prim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y operan dentro de amplios sistemas de reglas, generalmente complej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sole\Pictures\Dibujo5.jpg"/>
          <p:cNvPicPr/>
          <p:nvPr/>
        </p:nvPicPr>
        <p:blipFill>
          <a:blip r:embed="rId1"/>
          <a:stretch/>
        </p:blipFill>
        <p:spPr>
          <a:xfrm>
            <a:off x="0" y="1928880"/>
            <a:ext cx="292104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sole\Pictures\Dibujo4.jpg"/>
          <p:cNvPicPr/>
          <p:nvPr/>
        </p:nvPicPr>
        <p:blipFill>
          <a:blip r:embed="rId2"/>
          <a:stretch/>
        </p:blipFill>
        <p:spPr>
          <a:xfrm>
            <a:off x="3143160" y="571680"/>
            <a:ext cx="2786040" cy="584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sole\Pictures\Dibujo3.jpg"/>
          <p:cNvPicPr/>
          <p:nvPr/>
        </p:nvPicPr>
        <p:blipFill>
          <a:blip r:embed="rId3"/>
          <a:stretch/>
        </p:blipFill>
        <p:spPr>
          <a:xfrm>
            <a:off x="6143760" y="1500120"/>
            <a:ext cx="2714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1 CuadroTexto"/>
          <p:cNvSpPr/>
          <p:nvPr/>
        </p:nvSpPr>
        <p:spPr>
          <a:xfrm>
            <a:off x="428760" y="150012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También existen los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naturales: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l sabor a descompuesto, el olor a podrido, el humo en un incendio, o las nubes oscuras. Estos aspectos de la naturaleza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terpretad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por las personas com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señales de algo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.  No son signos primarios porque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no fueron creados por la sociedad con la intención de comunicar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, aunque el ser humano les asigne un significa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571680" y="13572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denominan 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</a:rPr>
              <a:t>signos secundarios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 los objetos creados por el ser humano sin la intención directa de establecer comunicación, tales como el vestido, las  viviendas y edificios, los perfumes, los automóvile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in embargo, estos  objetos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comun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0" i="1" lang="es-ES_tradnl" sz="2400" spc="-1" strike="noStrike">
                <a:solidFill>
                  <a:srgbClr val="000000"/>
                </a:solidFill>
                <a:latin typeface="Book Antiqua"/>
              </a:rPr>
              <a:t>indica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 algo de quien los usa, de quien los elabora, de la cultura que los emple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Users\sole\Pictures\Dibujo2.jpg"/>
          <p:cNvPicPr/>
          <p:nvPr/>
        </p:nvPicPr>
        <p:blipFill>
          <a:blip r:embed="rId1"/>
          <a:stretch/>
        </p:blipFill>
        <p:spPr>
          <a:xfrm>
            <a:off x="500040" y="571680"/>
            <a:ext cx="2550960" cy="5643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sole\Pictures\Dibujo1.jpg"/>
          <p:cNvPicPr/>
          <p:nvPr/>
        </p:nvPicPr>
        <p:blipFill>
          <a:blip r:embed="rId2"/>
          <a:stretch/>
        </p:blipFill>
        <p:spPr>
          <a:xfrm>
            <a:off x="3143160" y="571680"/>
            <a:ext cx="2857680" cy="566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sole\Pictures\Dibujo.jpg"/>
          <p:cNvPicPr/>
          <p:nvPr/>
        </p:nvPicPr>
        <p:blipFill>
          <a:blip r:embed="rId3"/>
          <a:stretch/>
        </p:blipFill>
        <p:spPr>
          <a:xfrm>
            <a:off x="6143760" y="571680"/>
            <a:ext cx="25462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8:00:05Z</dcterms:created>
  <dc:creator>Fam. Marquez Tamayo</dc:creator>
  <dc:description/>
  <dc:language>en-US</dc:language>
  <cp:lastModifiedBy>Fam. Marquez Tamayo</cp:lastModifiedBy>
  <dcterms:modified xsi:type="dcterms:W3CDTF">2010-05-27T09:02:40Z</dcterms:modified>
  <cp:revision>7</cp:revision>
  <dc:subject/>
  <dc:title>Diapositiva 1</dc:title>
</cp:coreProperties>
</file>