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004-44DE-4BCC-A87B-5B134A32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7BA-7B89-4109-B173-6E4D40B6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75C-744F-4AD2-B97D-27F9093A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A6A-5BBE-4016-9165-C0228AAE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C83-7B18-44F8-AEB5-CDBEF540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96D-3450-488D-A5BE-4D3D97D8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3B4-715E-4D8D-8970-F97DD280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A48C-3A4D-4AFB-AB5B-25D9FCC5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7C4-5D1A-40AC-98FE-073E145B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A32-AA0D-4F06-9974-C761EC1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D2B-1F7D-4248-AAA8-33B78DF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D15-3A2F-4DC4-82B9-F3278CC1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7106-B079-4E95-8B2F-5E2AD9830CA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1071720" y="1643040"/>
            <a:ext cx="7000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ook Antiqua"/>
              </a:rPr>
              <a:t>EL LENGUAJ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vidadelasmaras.files.wordpress.com/2009/09/maras_expo.jpg"/>
          <p:cNvPicPr/>
          <p:nvPr/>
        </p:nvPicPr>
        <p:blipFill>
          <a:blip r:embed="rId1"/>
          <a:stretch/>
        </p:blipFill>
        <p:spPr>
          <a:xfrm>
            <a:off x="1689120" y="1352520"/>
            <a:ext cx="5553000" cy="7888320"/>
          </a:xfrm>
          <a:prstGeom prst="rect">
            <a:avLst/>
          </a:prstGeom>
          <a:ln w="0">
            <a:noFill/>
          </a:ln>
        </p:spPr>
      </p:pic>
      <p:sp>
        <p:nvSpPr>
          <p:cNvPr id="60" name="1 CuadroTexto"/>
          <p:cNvSpPr/>
          <p:nvPr/>
        </p:nvSpPr>
        <p:spPr>
          <a:xfrm>
            <a:off x="428760" y="71424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aló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un conjunto de términos de origen impreciso y de significado dudoso. Se usa en determinados sector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on sistemas para identificarse, conocerse, comunicarse con facilidad y mantener lejos a los indeseables a su gru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También conocido com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aliche,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la jerga que se usa entre la gente de clases social baja y media baja, o el lenguaje de tal región o paí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pe.kalipedia.com/kalipediamedia/lenguayliteratura/media/200704/17/lenguacastellana/20070417klplyllec_14.Ies.SCO.jpg"/>
          <p:cNvPicPr/>
          <p:nvPr/>
        </p:nvPicPr>
        <p:blipFill>
          <a:blip r:embed="rId1"/>
          <a:stretch/>
        </p:blipFill>
        <p:spPr>
          <a:xfrm>
            <a:off x="1835280" y="1420920"/>
            <a:ext cx="5333760" cy="7107120"/>
          </a:xfrm>
          <a:prstGeom prst="rect">
            <a:avLst/>
          </a:prstGeom>
          <a:ln w="0">
            <a:noFill/>
          </a:ln>
        </p:spPr>
      </p:pic>
      <p:sp>
        <p:nvSpPr>
          <p:cNvPr id="62" name="1 CuadroTexto"/>
          <p:cNvSpPr/>
          <p:nvPr/>
        </p:nvSpPr>
        <p:spPr>
          <a:xfrm>
            <a:off x="357120" y="64296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Jerg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el nombre que recibe una variedad del habla diferenciada de la lengua estándar e incluso a veces incomprensible para los hablantes de esta, usada con frecuencia por distintos grupos sociales con intenciones de ocultar el verdadero significado de sus palabr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onstituyen jergas particulares las de ciertos grupos por distintos motiv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Por Paí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Profes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So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agenes.mailxmail.com/cursos/imagenes/4/6/que-se-entiende-por-comunicacion_28364_1_1.gif"/>
          <p:cNvPicPr/>
          <p:nvPr/>
        </p:nvPicPr>
        <p:blipFill>
          <a:blip r:embed="rId1"/>
          <a:stretch/>
        </p:blipFill>
        <p:spPr>
          <a:xfrm>
            <a:off x="2548080" y="1639800"/>
            <a:ext cx="4365360" cy="8607600"/>
          </a:xfrm>
          <a:prstGeom prst="rect">
            <a:avLst/>
          </a:prstGeom>
          <a:ln w="0">
            <a:noFill/>
          </a:ln>
        </p:spPr>
      </p:pic>
      <p:sp>
        <p:nvSpPr>
          <p:cNvPr id="64" name="1 CuadroTexto"/>
          <p:cNvSpPr/>
          <p:nvPr/>
        </p:nvSpPr>
        <p:spPr>
          <a:xfrm>
            <a:off x="500040" y="59220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Argot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el lenguaje específico utilizado por un grupo de personas que comparten unas características comunes por su categoría social, profesión, procedencia o afi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os argots se producen continuamente para nombrar aquello que carece de una traducción literal en la lengua normada, vigente en un determinado mo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argot abarca todo tipo de palabras y frases entre personas de una misma posición, rango o alcurn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57120" y="42876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llama lenguaje a cualquier tipo de </a:t>
            </a: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código semiótico estructurado</a:t>
            </a: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, para el que existe un contexto de uso y ciertos principios combinatorios formales. Existen contextos tanto naturales como artificia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yopsicologo.com/files/00002272_lenguaje.jpg"/>
          <p:cNvPicPr/>
          <p:nvPr/>
        </p:nvPicPr>
        <p:blipFill>
          <a:blip r:embed="rId1">
            <a:grayscl/>
          </a:blip>
          <a:stretch/>
        </p:blipFill>
        <p:spPr>
          <a:xfrm>
            <a:off x="5307120" y="4214880"/>
            <a:ext cx="305100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428760" y="285840"/>
            <a:ext cx="8429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 humano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e basa en la capacidad de los seres humanos para comunicarse por medio de sign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 anim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e basa en el uso de señales sonoras, visuales, y olfativas, a modo de signos, para señalar a un referente o un significado diferente de dichas señ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os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s formale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on construcciones artificiales human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uevosadolescentes.com/wp-content/uploads/2008/04/lenguaje-de-los-jovenes.jpg"/>
          <p:cNvPicPr/>
          <p:nvPr/>
        </p:nvPicPr>
        <p:blipFill>
          <a:blip r:embed="rId1"/>
          <a:stretch/>
        </p:blipFill>
        <p:spPr>
          <a:xfrm>
            <a:off x="2262240" y="1279440"/>
            <a:ext cx="950760" cy="184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fedaes.es/222/R-PAJARO.gif"/>
          <p:cNvPicPr/>
          <p:nvPr/>
        </p:nvPicPr>
        <p:blipFill>
          <a:blip r:embed="rId2"/>
          <a:stretch/>
        </p:blipFill>
        <p:spPr>
          <a:xfrm>
            <a:off x="5407200" y="3780000"/>
            <a:ext cx="1072800" cy="190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bocanadasgranainas.blogia.com/upload/20070708020720-semaforo.jpg"/>
          <p:cNvPicPr/>
          <p:nvPr/>
        </p:nvPicPr>
        <p:blipFill>
          <a:blip r:embed="rId3"/>
          <a:stretch/>
        </p:blipFill>
        <p:spPr>
          <a:xfrm>
            <a:off x="4048200" y="5492880"/>
            <a:ext cx="8715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500040" y="1452600"/>
            <a:ext cx="828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Form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estructural del lenguaje,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que se refiere a la complejidad combinatoria de los códigos usados, el medio usado para el mismo y los patrones en los que se basa la comunicación mediante dicho lenguaje. (Forma-Contenido-Us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Funcion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que se refiere a la intencionalidad con la que se usa, qué ventajas aporta y para qué casos se usa, con qué funciones y en qué contex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357200" y="41580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IMENSIONES DEL LENGU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428760" y="45252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Comportament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se refiere a todos al comportamiento exhibido por el emisor y los receptores del código, y a las conductas desencadenantes del uso y desencadenadas por el uso del lengua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Representativ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se refiere a la intencionalidad del emisor de exponer una información sin intención de dar una valoración o provocar una reacción en el recep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nformes.files.wordpress.com/2007/06/lengua_rolling_stones.jpg"/>
          <p:cNvPicPr/>
          <p:nvPr/>
        </p:nvPicPr>
        <p:blipFill>
          <a:blip r:embed="rId1"/>
          <a:stretch/>
        </p:blipFill>
        <p:spPr>
          <a:xfrm>
            <a:off x="2548080" y="1566720"/>
            <a:ext cx="3670200" cy="727884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357120" y="738360"/>
            <a:ext cx="828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términ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designa una variedad lingüística o forma de lenguaje humano con fines comunicativos que está dotado de una sintaxis y que obedece supuestamente a los principios de economía y optimidad. Las lenguas usualmente están basadas en símbolos sonoros pero también pueden existir lenguas basadas en sig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Una definición convencional de lengua es la de "signos lingüísticos que sirve a los miembros de una comunidad de hablantes para comunicarse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ixelaris.files.wordpress.com/2009/07/habla.jpg"/>
          <p:cNvPicPr/>
          <p:nvPr/>
        </p:nvPicPr>
        <p:blipFill>
          <a:blip r:embed="rId1"/>
          <a:stretch/>
        </p:blipFill>
        <p:spPr>
          <a:xfrm>
            <a:off x="1901880" y="1706400"/>
            <a:ext cx="490680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1 CuadroTexto"/>
          <p:cNvSpPr/>
          <p:nvPr/>
        </p:nvSpPr>
        <p:spPr>
          <a:xfrm>
            <a:off x="500040" y="663480"/>
            <a:ext cx="821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habl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un acto individual y voluntario en el que a través de actos de fonación y escritura, el hablante utiliza la lengua para comunicarse. Son las diversas manifestaciones de habla las que hacen evolucionar a la leng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habla es un acto individual que se opone a la lengua, que es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materialización individual de los pensamientos de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educima.com/sociedad-idioma-t1495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156440" cy="496260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357120" y="8571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idiom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un sistema de comunicación verbal o gestual propio de una comunidad humana. En la práctica, los idiomas son un conjunto de sistemas muy similares entre sí, llamados dialectos o más propiamente variedades lingüísticas, mutuamente inteligibles. La determinación de si dos de esas variedades son parte o no del mismo idioma es más una cuestión socio-política que lingüíst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número de idiomas generalmente aceptado está en torno a más de 6 mil en el mun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rfi.fr/actues/images/074/mexico_cultura_yaqui250_20060227.jpg"/>
          <p:cNvPicPr/>
          <p:nvPr/>
        </p:nvPicPr>
        <p:blipFill>
          <a:blip r:embed="rId1"/>
          <a:stretch/>
        </p:blipFill>
        <p:spPr>
          <a:xfrm>
            <a:off x="2120760" y="920880"/>
            <a:ext cx="4335480" cy="936288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357120" y="428760"/>
            <a:ext cx="8429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dialecto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hace referencia a una de las posibles variedades de una lengua; en concreto, un dialecto es un sistema de signos desgajado de una lengua común, viva o desaparecida, normalmente, con una concreta limitación geográfica, pero sin una fuerte diferenciación frente a otros de origen comú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lgunas variedades de lenguaje son frecuentemente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Book Antiqua"/>
              </a:rPr>
              <a:t>dialecto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por alguna de estas raz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tradición escri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ctores polí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prestig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autonomí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5:24:59Z</dcterms:created>
  <dc:creator>Manuel Marquez</dc:creator>
  <dc:description/>
  <dc:language>en-US</dc:language>
  <cp:lastModifiedBy>Manuel Marquez</cp:lastModifiedBy>
  <dcterms:modified xsi:type="dcterms:W3CDTF">2010-05-19T16:29:46Z</dcterms:modified>
  <cp:revision>1</cp:revision>
  <dc:subject/>
  <dc:title>Diapositiva 1</dc:title>
</cp:coreProperties>
</file>