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3FB-D986-4A2C-A5BC-A3A32CC1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67C-7A6E-40B2-89FF-82B0845E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94B-FA7E-4517-A7B8-E3F9BAAF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0176-0B70-4EFB-9FE4-9985F7F1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E5E-36D9-4193-A8DD-17B3F644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D9A-0C2D-4F18-9BDC-6777CB3E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E82-6B9A-4E09-8BF3-261A4B0A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C20E-ED82-4452-ABE0-AF52E713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8BE-C797-4424-92EB-7786743A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FA1-D379-469A-BF86-DFF1AB5E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D77-5852-42CB-9129-B59ECC3C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959-5FA1-4E5F-AB04-6B059761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E9A3-3AEA-4158-8AA1-B5DAFCC0067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>
            <a:off x="1071720" y="1643040"/>
            <a:ext cx="7000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Book Antiqua"/>
              </a:rPr>
              <a:t>EL LENGUAJ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vidadelasmaras.files.wordpress.com/2009/09/maras_expo.jpg"/>
          <p:cNvPicPr/>
          <p:nvPr/>
        </p:nvPicPr>
        <p:blipFill>
          <a:blip r:embed="rId1"/>
          <a:stretch/>
        </p:blipFill>
        <p:spPr>
          <a:xfrm>
            <a:off x="1689120" y="1352520"/>
            <a:ext cx="5553000" cy="7888320"/>
          </a:xfrm>
          <a:prstGeom prst="rect">
            <a:avLst/>
          </a:prstGeom>
          <a:ln w="0">
            <a:noFill/>
          </a:ln>
        </p:spPr>
      </p:pic>
      <p:sp>
        <p:nvSpPr>
          <p:cNvPr id="60" name="1 CuadroTexto"/>
          <p:cNvSpPr/>
          <p:nvPr/>
        </p:nvSpPr>
        <p:spPr>
          <a:xfrm>
            <a:off x="428760" y="714240"/>
            <a:ext cx="8286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Caló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s un conjunto de términos de origen impreciso y de significado dudoso. Se usa en determinados sectores soci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Son sistemas para identificarse, conocerse, comunicarse con facilidad y mantener lejos a los indeseables a su grup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También conocido como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caliche,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s la jerga que se usa entre la gente de clases social baja y media baja, o el lenguaje de tal región o paí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pe.kalipedia.com/kalipediamedia/lenguayliteratura/media/200704/17/lenguacastellana/20070417klplyllec_14.Ies.SCO.jpg"/>
          <p:cNvPicPr/>
          <p:nvPr/>
        </p:nvPicPr>
        <p:blipFill>
          <a:blip r:embed="rId1"/>
          <a:stretch/>
        </p:blipFill>
        <p:spPr>
          <a:xfrm>
            <a:off x="1835280" y="1420920"/>
            <a:ext cx="5333760" cy="7107120"/>
          </a:xfrm>
          <a:prstGeom prst="rect">
            <a:avLst/>
          </a:prstGeom>
          <a:ln w="0">
            <a:noFill/>
          </a:ln>
        </p:spPr>
      </p:pic>
      <p:sp>
        <p:nvSpPr>
          <p:cNvPr id="62" name="1 CuadroTexto"/>
          <p:cNvSpPr/>
          <p:nvPr/>
        </p:nvSpPr>
        <p:spPr>
          <a:xfrm>
            <a:off x="357120" y="642960"/>
            <a:ext cx="8429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Jerg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es el nombre que recibe una variedad del habla diferenciada de la lengua estándar e incluso a veces incomprensible para los hablantes de esta, usada con frecuencia por distintos grupos sociales con intenciones de ocultar el verdadero significado de sus palabr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Constituyen jergas particulares las de ciertos grupos por distintos motiv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Por Paí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Profes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Soci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imagenes.mailxmail.com/cursos/imagenes/4/6/que-se-entiende-por-comunicacion_28364_1_1.gif"/>
          <p:cNvPicPr/>
          <p:nvPr/>
        </p:nvPicPr>
        <p:blipFill>
          <a:blip r:embed="rId1"/>
          <a:stretch/>
        </p:blipFill>
        <p:spPr>
          <a:xfrm>
            <a:off x="2548080" y="1639800"/>
            <a:ext cx="4365360" cy="8607600"/>
          </a:xfrm>
          <a:prstGeom prst="rect">
            <a:avLst/>
          </a:prstGeom>
          <a:ln w="0">
            <a:noFill/>
          </a:ln>
        </p:spPr>
      </p:pic>
      <p:sp>
        <p:nvSpPr>
          <p:cNvPr id="64" name="1 CuadroTexto"/>
          <p:cNvSpPr/>
          <p:nvPr/>
        </p:nvSpPr>
        <p:spPr>
          <a:xfrm>
            <a:off x="500040" y="592200"/>
            <a:ext cx="8429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Argot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es el lenguaje específico utilizado por un grupo de personas que comparten unas características comunes por su categoría social, profesión, procedencia o afi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Los argots se producen continuamente para nombrar aquello que carece de una traducción literal en la lengua normada, vigente en un determinado momen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argot abarca todo tipo de palabras y frases entre personas de una misma posición, rango o alcurn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CuadroTexto"/>
          <p:cNvSpPr/>
          <p:nvPr/>
        </p:nvSpPr>
        <p:spPr>
          <a:xfrm>
            <a:off x="357120" y="428760"/>
            <a:ext cx="8358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Se llama lenguaje a cualquier tipo de </a:t>
            </a:r>
            <a:r>
              <a:rPr b="1" lang="es-ES" sz="4000" spc="-1" strike="noStrike">
                <a:solidFill>
                  <a:srgbClr val="ff0000"/>
                </a:solidFill>
                <a:latin typeface="Book Antiqua"/>
              </a:rPr>
              <a:t>código semiótico estructurado</a:t>
            </a: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, para el que existe un contexto de uso y ciertos principios combinatorios formales. Existen contextos tanto naturales como artificial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yopsicologo.com/files/00002272_lenguaje.jpg"/>
          <p:cNvPicPr/>
          <p:nvPr/>
        </p:nvPicPr>
        <p:blipFill>
          <a:blip r:embed="rId1">
            <a:grayscl/>
          </a:blip>
          <a:stretch/>
        </p:blipFill>
        <p:spPr>
          <a:xfrm>
            <a:off x="5307120" y="4214880"/>
            <a:ext cx="305100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428760" y="285840"/>
            <a:ext cx="8429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El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lenguaje humano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se basa en la capacidad de los seres humanos para comunicarse por medio de sign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El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lenguaje animal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se basa en el uso de señales sonoras, visuales, y olfativas, a modo de signos, para señalar a un referente o un significado diferente de dichas seña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Los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lenguajes formales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son construcciones artificiales human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nuevosadolescentes.com/wp-content/uploads/2008/04/lenguaje-de-los-jovenes.jpg"/>
          <p:cNvPicPr/>
          <p:nvPr/>
        </p:nvPicPr>
        <p:blipFill>
          <a:blip r:embed="rId1"/>
          <a:stretch/>
        </p:blipFill>
        <p:spPr>
          <a:xfrm>
            <a:off x="2262240" y="1279440"/>
            <a:ext cx="950760" cy="1841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www.fedaes.es/222/R-PAJARO.gif"/>
          <p:cNvPicPr/>
          <p:nvPr/>
        </p:nvPicPr>
        <p:blipFill>
          <a:blip r:embed="rId2"/>
          <a:stretch/>
        </p:blipFill>
        <p:spPr>
          <a:xfrm>
            <a:off x="5407200" y="3780000"/>
            <a:ext cx="1072800" cy="1901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bocanadasgranainas.blogia.com/upload/20070708020720-semaforo.jpg"/>
          <p:cNvPicPr/>
          <p:nvPr/>
        </p:nvPicPr>
        <p:blipFill>
          <a:blip r:embed="rId3"/>
          <a:stretch/>
        </p:blipFill>
        <p:spPr>
          <a:xfrm>
            <a:off x="4048200" y="5492880"/>
            <a:ext cx="87156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500040" y="1452600"/>
            <a:ext cx="8286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-Formal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o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estructural del lenguaje,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que se refiere a la complejidad combinatoria de los códigos usados, el medio usado para el mismo y los patrones en los que se basa la comunicación mediante dicho lenguaje. (Forma-Contenido-Us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-Funcional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, que se refiere a la intencionalidad con la que se usa, qué ventajas aporta y para qué casos se usa, con qué funciones y en qué contex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2 CuadroTexto"/>
          <p:cNvSpPr/>
          <p:nvPr/>
        </p:nvSpPr>
        <p:spPr>
          <a:xfrm>
            <a:off x="1357200" y="415800"/>
            <a:ext cx="67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DIMENSIONES DEL LENGU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428760" y="452520"/>
            <a:ext cx="8286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-Comportamental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, se refiere a todos al comportamiento exhibido por el emisor y los receptores del código, y a las conductas desencadenantes del uso y desencadenadas por el uso del lengua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-Representativ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, se refiere a la intencionalidad del emisor de exponer una información sin intención de dar una valoración o provocar una reacción en el recep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informes.files.wordpress.com/2007/06/lengua_rolling_stones.jpg"/>
          <p:cNvPicPr/>
          <p:nvPr/>
        </p:nvPicPr>
        <p:blipFill>
          <a:blip r:embed="rId1"/>
          <a:stretch/>
        </p:blipFill>
        <p:spPr>
          <a:xfrm>
            <a:off x="2548080" y="1566720"/>
            <a:ext cx="3670200" cy="7278840"/>
          </a:xfrm>
          <a:prstGeom prst="rect">
            <a:avLst/>
          </a:prstGeom>
          <a:ln w="0">
            <a:noFill/>
          </a:ln>
        </p:spPr>
      </p:pic>
      <p:sp>
        <p:nvSpPr>
          <p:cNvPr id="52" name="1 CuadroTexto"/>
          <p:cNvSpPr/>
          <p:nvPr/>
        </p:nvSpPr>
        <p:spPr>
          <a:xfrm>
            <a:off x="357120" y="738360"/>
            <a:ext cx="8286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término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lengu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designa una variedad lingüística o forma de lenguaje humano con fines comunicativos que está dotado de una sintaxis y que obedece supuestamente a los principios de economía y optimidad. Las lenguas usualmente están basadas en símbolos sonoros pero también pueden existir lenguas basadas en sign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Una definición convencional de lengua es la de "signos lingüísticos que sirve a los miembros de una comunidad de hablantes para comunicarse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pixelaris.files.wordpress.com/2009/07/habla.jpg"/>
          <p:cNvPicPr/>
          <p:nvPr/>
        </p:nvPicPr>
        <p:blipFill>
          <a:blip r:embed="rId1"/>
          <a:stretch/>
        </p:blipFill>
        <p:spPr>
          <a:xfrm>
            <a:off x="1901880" y="1706400"/>
            <a:ext cx="490680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1 CuadroTexto"/>
          <p:cNvSpPr/>
          <p:nvPr/>
        </p:nvSpPr>
        <p:spPr>
          <a:xfrm>
            <a:off x="500040" y="663480"/>
            <a:ext cx="8215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 habl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es un acto individual y voluntario en el que a través de actos de fonación y escritura, el hablante utiliza la lengua para comunicarse. Son las diversas manifestaciones de habla las que hacen evolucionar a la lengu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habla es un acto individual que se opone a la lengua, que es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s materialización individual de los pensamientos de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educima.com/sociedad-idioma-t14957.jpg"/>
          <p:cNvPicPr/>
          <p:nvPr/>
        </p:nvPicPr>
        <p:blipFill>
          <a:blip r:embed="rId1"/>
          <a:stretch/>
        </p:blipFill>
        <p:spPr>
          <a:xfrm>
            <a:off x="1066680" y="1066680"/>
            <a:ext cx="7156440" cy="4962600"/>
          </a:xfrm>
          <a:prstGeom prst="rect">
            <a:avLst/>
          </a:prstGeom>
          <a:ln w="0">
            <a:noFill/>
          </a:ln>
        </p:spPr>
      </p:pic>
      <p:sp>
        <p:nvSpPr>
          <p:cNvPr id="56" name="1 CuadroTexto"/>
          <p:cNvSpPr/>
          <p:nvPr/>
        </p:nvSpPr>
        <p:spPr>
          <a:xfrm>
            <a:off x="357120" y="857160"/>
            <a:ext cx="8286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idiom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es un sistema de comunicación verbal o gestual propio de una comunidad humana. En la práctica, los idiomas son un conjunto de sistemas muy similares entre sí, llamados dialectos o más propiamente variedades lingüísticas, mutuamente inteligibles. La determinación de si dos de esas variedades son parte o no del mismo idioma es más una cuestión socio-política que lingüíst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número de idiomas generalmente aceptado está en torno a más de 6 mil en el mun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rfi.fr/actues/images/074/mexico_cultura_yaqui250_20060227.jpg"/>
          <p:cNvPicPr/>
          <p:nvPr/>
        </p:nvPicPr>
        <p:blipFill>
          <a:blip r:embed="rId1"/>
          <a:stretch/>
        </p:blipFill>
        <p:spPr>
          <a:xfrm>
            <a:off x="2120760" y="920880"/>
            <a:ext cx="4335480" cy="9362880"/>
          </a:xfrm>
          <a:prstGeom prst="rect">
            <a:avLst/>
          </a:prstGeom>
          <a:ln w="0">
            <a:noFill/>
          </a:ln>
        </p:spPr>
      </p:pic>
      <p:sp>
        <p:nvSpPr>
          <p:cNvPr id="58" name="1 CuadroTexto"/>
          <p:cNvSpPr/>
          <p:nvPr/>
        </p:nvSpPr>
        <p:spPr>
          <a:xfrm>
            <a:off x="357120" y="428760"/>
            <a:ext cx="8429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dialecto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hace referencia a una de las posibles variedades de una lengua; en concreto, un dialecto es un sistema de signos desgajado de una lengua común, viva o desaparecida, normalmente, con una concreta limitación geográfica, pero sin una fuerte diferenciación frente a otros de origen comú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Algunas variedades de lenguaje son frecuentemente denominadas </a:t>
            </a:r>
            <a:r>
              <a:rPr b="0" i="1" lang="es-ES" sz="2800" spc="-1" strike="noStrike">
                <a:solidFill>
                  <a:srgbClr val="000000"/>
                </a:solidFill>
                <a:latin typeface="Book Antiqua"/>
              </a:rPr>
              <a:t>dialectos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por alguna de estas raz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Falta de tradición escrit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Factores polít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Falta de prestigi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Falta de autonomí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5:24:59Z</dcterms:created>
  <dc:creator>Manuel Marquez</dc:creator>
  <dc:description/>
  <dc:language>en-US</dc:language>
  <cp:lastModifiedBy>Manuel Marquez</cp:lastModifiedBy>
  <dcterms:modified xsi:type="dcterms:W3CDTF">2010-05-19T16:29:46Z</dcterms:modified>
  <cp:revision>1</cp:revision>
  <dc:subject/>
  <dc:title>Diapositiva 1</dc:title>
</cp:coreProperties>
</file>